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92FF6-A1A1-4941-9DE0-10FEB5D5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0C8E4-70BC-40DE-8ECE-9967414B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5383-E05A-47E9-AFB2-86C9F0C8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BA32-D4D7-4C9E-B565-EA757511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5DEB-F388-417A-BDED-51A07D13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AC8D-439F-4C7B-8AB8-C71BD27C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11AB-71EF-4CB4-B0CE-43B129B8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9378-3D39-4826-AACF-652D8487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75D6-C09B-435F-AFB7-75BD36E0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C63F-7042-4505-9882-CE846F7C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5BED-05C5-450D-BC18-A80554D8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95EE1-1A73-4DA4-8A69-435EF5A2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D650-1CB0-47BB-821B-4418DAED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BE65-620D-4D34-939E-F7C84BA1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F091-D63F-481F-83DB-019D1927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46BB-B651-42AA-B755-42F9384E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0099-93EA-45F3-BCEC-083891CA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CB56-AD40-49A5-B4A7-B5BC155D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C065-0F16-445D-AF5D-04DA3E11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25E76-E12E-453E-8F3E-0A26B39C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FA06-B29D-4509-85A2-BF6759FD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E69A-2D33-4798-897A-E8BF9442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9BD0-D64F-4165-9782-DA18D6C5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9FAEA-6F98-40BB-9223-6C153887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8222-5174-418E-A6D3-C1322902C2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15D6-D2BA-4980-958D-8DA7BAAFE3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14680" y="4786200"/>
            <a:ext cx="590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050920" y="4653000"/>
            <a:ext cx="59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Исследование режима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воде информации данные записываются с шин каналов в буферные регистры ППИ без стробирования, а передаются на внутреннюю магистраль микроЭВМ по сигналу RD/. При выводе данные от микроЭВМ записываются в соответствующий регистр ППИ по фронту сигнала WR/ и сразу же выводятся на шину канала. Недостаток режима 0 состоит в том, что при вводе данных из БИС ППИ возможно считывание ложной информации, если в процессе выполнения команды ввода (чтения) происходит изменение данных на входах каналов ППИ. После включения питания и подачи импульса начальной установки (INIT) все каналы ППИ настраиваются на ввод данных в режиме 0. Поэтому при программировании ППИ для вывода данных из микроЭВМ после записи управляющего слова в ППИ возможна выдача случайной информации, записанной в регистр канала ранее или установившейся в нем сразу после включения пит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Установить переключатель SA20 (слева) в положение "РАБ", SA21(справа)- в положение "АВТ"(оба в нижнее положен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ить и выполнить программу в автоматическом режиме согласно следующего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0 (ввод через КB, вывод через КA и КС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ов КA и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в одну из ячеек линейного дисплея «Электроники-580» (адреса 83F8…83FF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Определить состояния выходов канала КС после загрузки управляющего слова для вывода данных через канал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. Исследование режима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енные диаграммы работы каналов КА и КВ в режимах ввода и вывода приведены на рис.4, 5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на ввод данных информация записывается в регистр канала по заднему фронту сигнала STBRC/( стробирующий сигнал приема). Получив данные, ППИ вырабатывает сигнал ACKRC/ (подтверждение приема), сохраняемый до окончания передачи в микроЭВМ по сигналу RD/. Возвращаемый внешнему устройству сигнал ACKRC/ запрещает ему формировать новый сигнал STBRC/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сигнал ACKRC/ и внутренний триггер разрешения прерываний (INTE) канала установлены в "1", то по фронту сигнала STBRC/ на выходе ППИ формируется сигнал запроса прерывания INT, одновременно фиксируемый в слове состояния ППИ. Этот сигнал может быть использован для информирования микроЭВМ о готовности данных к вводу. По сигналу чтения RD/ из микроЭВМ сначала сбрасывается сигнал запроса, а затем сигнал ACKRC/, разрешая внешнему устройству передачу следующего байт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овка - сброс триггеров разрешения прерывания INTE1, INTE2 осуществляется с помощью управляющих слов установки разрядов 4 (INTE1) и 2 (INTE2) канала КС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ris45_55.bmp (1021734 bytes)"/>
          <p:cNvPicPr/>
          <p:nvPr/>
        </p:nvPicPr>
        <p:blipFill>
          <a:blip r:embed="rId1"/>
          <a:stretch/>
        </p:blipFill>
        <p:spPr>
          <a:xfrm>
            <a:off x="1476360" y="620640"/>
            <a:ext cx="5834160" cy="6048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738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яды 6, 7 канала КС могут быть использованы как для ввода, так и для вывода. Если они запрограммированы для ввода, то чтение информации на этих входах производится с помощью операции чтения из канала КС. Если они запрограммированы для вывода, то их можно использовать только путем установки или сброса разрядов 6, 7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в режиме вывода данные в выходной регистр канала записываются по сигналу WR/. В момент окончания записи ППИ формирует управляющий сигнал STBWR/ (строб записи), указывающий на то, что данные на выходе ППИ установлены и могут быть считаны внешним устройством. Прием данных ВУ подтверждается сигналом ACKWR/ (подтверждение записи). Для информирования микроЭВМ о завершении цикла передачи и готовности канала к получению новых данных может быть использован сигнал INT, который устанавливается в "1" при высоких уровнях сигналов STBWR/, ACKWR/ и единичном состоянии триггера разрешения прерывания INTE. На интервале вывода данных в ВУ этот сигнал остается на низком уровне. Установка и сброс триггеров разрешения прерывания INTE0, INTE2 каналов производится путем программирования разрядов 6 и 2 канала КС. Разряды 4 и 5 КС могут быть использованы для синхронного ввода/вы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ПИ запрограммирован для работы в режимах 1 или 2, то состояние обмена можно определить программным путем при чтении содержимого регистра канала КС. Форматы слова состояния для режима 1 приведены на рис.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ris6_55.gif (5749 bytes)"/>
          <p:cNvPicPr/>
          <p:nvPr/>
        </p:nvPicPr>
        <p:blipFill>
          <a:blip r:embed="rId1"/>
          <a:stretch/>
        </p:blipFill>
        <p:spPr>
          <a:xfrm>
            <a:off x="684360" y="549360"/>
            <a:ext cx="7561080" cy="3093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3833640"/>
            <a:ext cx="8496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одуле УМПК-80/МИ2 при выводе информации через разряды канала КС переключатель SA20 необходимо перевести в положение "БЛК". Для формирования входной информации в разряде КС4 можно использовать кнопку STBRC/ (SA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Установить переключатель SA20 в положение "РАБ", SA21 в положение "АВТ". Выполнить циклическую программу стробируемого ввода данных по каналу КВ и вывода данных в канал КА. Для имитации сигналов ВУ использовать кнопки SA1 (STBRC/ и ACKWR/ канала КВ), SA2 (STBRC/ канала КА) и SA3 (ACKWR/ канала КА). В качестве флагов готовности можно использовать разряды 1, 5 (при вводе) и разряды 1, 7 (при выводе) слова состояния ППИ. Перед началом цикла обмена инициализировать работу каналов КА и КВ для работы в режиме 1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1 (ввод через КВ, вывод через К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( по сигналу STBRC/ от кнопки SA1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( по сигналу ACKWR/ от кнопки SA3).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из РОН В в аккумуля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сследовать временные диаграммы обмена по каналу КА в динамике с помощью осциллографа, имитируя сигналы внешнего устройства с помощью выходных сигналов канала КВ ( рис. 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ris7_55"/>
          <p:cNvPicPr/>
          <p:nvPr/>
        </p:nvPicPr>
        <p:blipFill>
          <a:blip r:embed="rId1"/>
          <a:stretch/>
        </p:blipFill>
        <p:spPr>
          <a:xfrm>
            <a:off x="971640" y="1125360"/>
            <a:ext cx="6696000" cy="4464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исследования диаграмм в режиме ввода выполнить програ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CW ; Запись управляющего сл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SET1: MVI A, SET ; Установка триггера INT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 ; Формирование сигнала STB RC/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IN 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JMP SE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 подготовить программу для исследования временных диаграмм ППИ в режиме вывода. Выполнить программу на стенде. Снять осциллограммы сигналов цикла ввода и цикла вывод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ыполнить программы, обеспечив ввод (вывод) в режиме 1 по одному из каналов КА или КВ, одновременно используя один из разрядов канала КС для синхронного обмена. При выводе информации через разряды канала КС перевести переключатель SA20 в положение "БЛК"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2 используется для двунаправленного асинхронного обмена информацией по каналу КА. Сигналы управления (рис. 8), передаваемые по пяти линиям канала КС, представляют собой комбинацию сигналов, используемых при работе канала КА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ris8_55"/>
          <p:cNvPicPr/>
          <p:nvPr/>
        </p:nvPicPr>
        <p:blipFill>
          <a:blip r:embed="rId1"/>
          <a:srcRect l="10029" t="5868" r="5505" b="13915"/>
          <a:stretch/>
        </p:blipFill>
        <p:spPr>
          <a:xfrm>
            <a:off x="1332000" y="1700280"/>
            <a:ext cx="6049800" cy="4983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м отличием режима 2 от режима 1 является то, что информация, записанная в регистр канала КА для вывода, появляется на его выходах не сразу, а после выдачи внешним устройством сигнала ACKWR/. До этого момента выходы канала КА находятся в состоянии высокого импеданса. Временные диаграммы обмена в режиме 2 эквивалентны временным диаграммам обмена в режиме 1 и допускают любую последовательность передачи данных, при которой сигнал WR/ появляется раньше сигнала ACKWR/, а сигнал STBRC/ раньше сигнала RD/. Установка-сброс триггеров разрешения прерывания INTE0, INTE1 осуществляется путем программной установки разрядов 6 (вывод) и 4 (ввод) канала К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ал КВ может использоваться при работе канала КА в режиме 2 как для синхронного (режим 0), так и для асинхронного (режим 1) ввода-вывода. Формат слова состояния для режима 2 приведен на рис.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ris9_55bmp.bmp (316458 bytes)"/>
          <p:cNvPicPr/>
          <p:nvPr/>
        </p:nvPicPr>
        <p:blipFill>
          <a:blip r:embed="rId1"/>
          <a:stretch/>
        </p:blipFill>
        <p:spPr>
          <a:xfrm>
            <a:off x="755640" y="4076640"/>
            <a:ext cx="7777080" cy="2578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91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700360" y="1989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05760" y="764640"/>
            <a:ext cx="69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оение принципов программного управления БИС программируемого параллельного интерфейса (ППИ) с помощью микроЭВ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протоколов обмена между ППИ и микроЭВМ по внутренней магистрали, между ППИ и ВУ по внешней магистрали в различных режимах обмена (синхронном, асинхронном, однонаправленном, двунаправленн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а КА в режиме 2 и канала КВ в режиме 0 можно использовать незадействованные под управляющие сигналы разряды КС0-2 для ввода-вывода информации. Убедиться в этом можно, используя в качестве формирователя входной информации разряда КС2 кнопку SA1 сигнала STBRC/.В (при вводе информации) или устанавливая/сбрасывая разряды КС0-2 (при выводе информа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оставить программу для стробируемого ввода данных по каналу КА и КВ и последующего вывода данных в канал КА, используя режим 2 канала КА и режим 1 канала КВ. Исследовать влияние управляющих сигналов STBRC/.A и ACKWR/.A, ( а также триггеров INTE0 и INTE1) на работу канала КА в режиме 2, а также влияние сигнала STBRC/.B (и триггера INTE2) на работу канала КВ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канала КВ на ввод в режиме 1, канала КА на режим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воду ( по сигналу STBRC/ от кнопки SA2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по вводу ( по сигналу STBRC/ от кнопки SA1). 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отка данных, полученных через каналы КА и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результата совместной обработки через канал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ыводу ( по сигналу ACKWR/ от кнопки SA3). Если флаг равен 0, переход на п.11, иначе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чание. Проверка флагов готовности может быть заменена проверкой запросов прерываний при разрешении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Изменить программу п.6, осуществив работу канала КА в режиме 2 совместно с работой канала KB в режиме 0 и обменом по линиям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формить отч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чет должен содержать схемы связи ППИ с внутренней и внешней магистралями, тексты отлаженных программ на языке ассемблера и в 16-ичных кодах, отметки действий оператора в соответствующих точках программы, необходимые при воспроизведении того или иного режима работы, осциллограммы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Техническое описание УМПК - 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опряжения микроЭВМ с различными типами внешних устройств широко применяется программируемое устройство параллельного ввода/вывода данных - микросхема программируемый параллельный интерфейс КР580ВВ55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ная схема ППИ приведена на рис.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11280" y="6165720"/>
            <a:ext cx="51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ris1_55"/>
          <p:cNvPicPr/>
          <p:nvPr/>
        </p:nvPicPr>
        <p:blipFill>
          <a:blip r:embed="rId1"/>
          <a:stretch/>
        </p:blipFill>
        <p:spPr>
          <a:xfrm>
            <a:off x="971640" y="2200320"/>
            <a:ext cx="7956360" cy="4657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ПИ содержит 8-разрядный буфер шины данных (БФД) для обмена данными через магистраль микроЭВМ, три 8-разрядных канала (буферных регистра) КА, КВ и КС для связи с внешними устройствами и схему управления с регистром управления (РгУ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ходные сигналы управления: CS/ (выбор микросхемы), RD/ (чтение), WR/ (запись), а также сигналы A0, A1, определяющие адрес (номер) канала ввода-вывода или регистра управления, - устанавливают направление обмена данными между микроЭВМ и одним из регистров ППИ. В табл.1 приведены основные операции ППИ в зависимости от значений управляющих и адресных сигналов на вхо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6" descr="tab1_55.gif (4734 bytes)"/>
          <p:cNvPicPr/>
          <p:nvPr/>
        </p:nvPicPr>
        <p:blipFill>
          <a:blip r:embed="rId1"/>
          <a:stretch/>
        </p:blipFill>
        <p:spPr>
          <a:xfrm>
            <a:off x="2268360" y="3860640"/>
            <a:ext cx="4896000" cy="276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7"/>
          <p:cNvSpPr/>
          <p:nvPr/>
        </p:nvSpPr>
        <p:spPr>
          <a:xfrm>
            <a:off x="2268360" y="34999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установки режима работы ППИ обмен данными с каналами ввода-вывода может быть осуществлен по командам ввода (IN port N) и вывода (OUT port 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тановки режима работы ППИ необходимо послать в регистр управления управляющее слово, обеспечив настройку каналов на тот или иной режим работы. Формат управляющего слова режима приведен на рис.2, 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работы каналов КА и КВ программируются независимо друг от друга. Режим работы канала КС, который разделен на два 4-разрядных канала КС0-3 и КС4-7, зависит от режимов работы каналов КВ и КА соответственно. ППИ позволяет осуществить три режима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нхронный обмен по двум независимым каналам КА и КВ, а также по двум 4-разрядным каналам КС0-3 и КС4-7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тробируемый ввод/вывод, обеспечивая асинхронный однонаправленный обмен по 2-м независимым каналам КА и КВ. Линии канала КС используются для управления передачей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асинхронный двунаправленный обмен через канал КА под управлением сигналов канала КС. Канал КВ может быть использован для асинхронного однонаправленного ввода/вы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ополнение к перечисленным режимам работы БИС ППИ обеспечивает возможность программной независимой установки или сброса любого разряда канала С. Формат управляющего слова для установки/сброса разрядов КС показан на рис. 2,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ris2_55.bmp (800174 bytes)"/>
          <p:cNvPicPr/>
          <p:nvPr/>
        </p:nvPicPr>
        <p:blipFill>
          <a:blip r:embed="rId1"/>
          <a:stretch/>
        </p:blipFill>
        <p:spPr>
          <a:xfrm>
            <a:off x="755640" y="333360"/>
            <a:ext cx="6985080" cy="6086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модуля параллельного интерфей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представляет собой печатную плату, один из внешних разъемов которой предназначен для связи с микроЭВМ, а второй для подключения внешних устройств. Разъем для подключения модуля к внутренней магистрали микроЭВМ содержит восемь линий данных, восемь адресных линий (младший байт адреса), три сигнала управления передачей данных (IORC/ - сигнал чтения из внешнего устройства, IOWC/ - сигнал записи во внешнее устройство и IOEN/- сигнал разрешения ввода/вывода), сигнал начальной установки INIT, а также линии ОБЩ и +5В. На разъем, предназначенный для подключения внешних устройств, выведены линии каналов КА, КВ и КС ППИ, а также сигнал внешней синхронизации осциллографа, необходимый для наблюдения временных диагра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енная принципиальная схема модуля представлена в прило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м элементом схемы является БИС (ППИ, D2), непосредственно реализующая функции параллельного интерфей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дешифрации адреса (ДША, D1) выдает сигналы выборки низкого уровня на следующие элементы сх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ИС ППИ при обращении микроЭВМ к внешнему устройству с адресами В0Н...В3Н. При этом адреса каналов КА, КВ, КС и регистра управляющего слова - В0, В1, В2 и В3 соответствен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состояния внутренних триггеров разрешения прерывания при чтении из канала КС по адресу В2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управляющего слова при записи в регистр управления ППИ по адресу В3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55640" y="3311640"/>
            <a:ext cx="67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состояния внутренних триггеров разрешения прерывания (СИСТ, D3, Е1) позволяет отображать с помощью светодиодов информацию о том, установлены или сброшены триггеры разрешения прерывания каналов КА и КВ. Информация о состоянии триггеров записывается в регистр при чтении из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управляющего слова (СИУС, D4, E2) позволяет в любой момент времени видеть, в каком режиме работает БИС ППИ. Информация записывается в регистр при записи управляющего слова в ПП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А (БФА, ИКА и НПА, D6, D10, SA4...SA11, E4) позволяют отображать информацию, записанную в канал КА, а также осуществлять ввод через канал КА информации, задаваемой с помощью переключателей SA4...SA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С (БФС, ИКС и НПС, D7, D8, E3, SA1...SA3) предназначены соответственно для отображения информации, записанной в канал КС, и для имитации управляющих сигналов внешнего устрой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орное поле и буфер канала КВ (НПВ и БФВ, D5, D9, SA12...SA19) позволяют задавать входную информацию для считывания через канал КВ и программно имитировать управляющие сигналы внешнего устройства. Буфер открывается для ввода информации с наборного поля при наличии "1" во втором разряде управляющего слова, то есть когда канал КВ программируется для в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39640" y="5493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оложение переключателей, кнопок и элементов индикации приведено на рис.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ris3_55"/>
          <p:cNvPicPr/>
          <p:nvPr/>
        </p:nvPicPr>
        <p:blipFill>
          <a:blip r:embed="rId1"/>
          <a:stretch/>
        </p:blipFill>
        <p:spPr>
          <a:xfrm>
            <a:off x="2050920" y="981000"/>
            <a:ext cx="4880160" cy="5877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35Z</dcterms:modified>
  <cp:revision>28</cp:revision>
  <dc:subject/>
  <dc:title>Микропроцессорные системы</dc:title>
</cp:coreProperties>
</file>